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EC0-AE1A-4324-81BD-826369DF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1AE-3B4D-489E-B2A6-FEC6951D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128-094F-4BD2-9DD9-1DDF5D45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526-4181-4503-9B97-48A59980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3AF-6EBF-40E7-AA97-FB0C6B46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B67-AA01-4067-9EAF-7E4B5C1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19F-B64C-4574-B72D-C83BCC83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383-793B-4390-9C76-BB9446D4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0A9-AE82-494B-AF05-175A839A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18A-7014-4E8E-82B7-EBECD245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69B-B340-46AD-BF0D-3AF67BD7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F8A-9320-43CC-88F1-5D08C3F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B71B-9E89-4E3F-92E9-E9F887A5DAB8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Колаген за хируршке процедуре у стоматологиј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бија се из Ахилове тетиве говеч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нђераста, еластична струк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ени се на рану која крвари, и континуирано притиска 2 до 5 мину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же да се уклони или остави на месту аплика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тифибринолит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7120" y="1714680"/>
            <a:ext cx="85726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ле операције или вађења зуба, када се хемостаза успостави, долази до активирања процеса фибринолизе. Фибринолиза нагриза коагулуме, и после неколико дана може изазвати накнадно крваре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 би се то спречило, пацијентима се после операције даје да испирају уста раствором који садрж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нтифибринолитик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5% транексамична киселина, 4 пута дневно, 7 дана, или 25% епсилон-аминокапронска киселина, 4 пута дневно, 7 д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аква локална примена антифибринолитика је врло ефикасна, јер смањује учесталост постоперативних крвављења са 40% на само 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ибрински леп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40480" y="1785960"/>
            <a:ext cx="855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оји се из две компон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ин + фактор 13 и тромбина + калц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дођу у контакт, настаје угруш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ин је добијен из плазме давал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омбин је говеђе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и ризик од трансмисије инфекције хепатитисом Б, Ц или ХИВ-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Транексамична кисел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5% - тна течност за испирање у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ористи се за спречавање крварења после операција у усној дупљи код особа које су на антикоагуланс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ацијенти на хроничној оралној антикоагулантној терапији и екстракција зуб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2560" y="1600200"/>
            <a:ext cx="900108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ије потребно прекидати примену оралних антикоагулана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емостаза се постиже постављањем желатинског сунђера и сутурама свилом преко сунђе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честалост постоперативног крварења је од 5 до 15%, и не зависи од висине ИНР-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58720" y="5643720"/>
            <a:ext cx="824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er D, Manor Y, Martinowitz U, Taicher S. Dental extractions in patients maintained on oral anticoagulant therap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INR value with occurrence of postoperative bleeding. Int J Oral Maxillofac Surg. 2001 ;30(6):518-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er D, Manor Y, Martinowitz U, Taicher S, Hashomer T. Dental extractions in patients maintained on continued o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oagulant: comparison of local hemostatic modal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l Surg Oral Med Oral Pathol Oral Radiol Endod. 1999 Aug;88(2):137-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АСТЕ ЗА ЗУБ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57120" y="144468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сте за зубе садрже сапун или детерџент уз прашак који је довољно тврд и храпавих честица да делује абразивно на површину зуба (таман толико да са ње скине прљавштину,а да не оштети глеђ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бразивни прашкови могу бити тројаки, у погледу величине и храпавости честиц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руб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тврдим и великим честица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(2) политирајућ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мање тврдим и мањим честицама;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(3) прашкови за чишће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меканим и малим честицама, који служе само за најблаже чишћење 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Најчешће коришћени абразив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Вулканска праши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састоји се углавном од алуминијума, калијума и натријума; може бити самлевена у различитим величинама честица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орун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минерал алуминијум оксид, који се самлевен у прашак користи као абрази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Чист алумијум окси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млевен у прашак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ре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калцијум-карбонат припремљен методом преципитације; спада у групу политирајућих абразив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алај окси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хром-окси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песа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цирконијум силик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Хумектан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264312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умектан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 сустанце у пастама за зубе које спречавају њихово исушивање: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глицери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орбитол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ропилен-гли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Детерџен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57160" y="2690640"/>
            <a:ext cx="78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детерџенат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се у пастама за зубе налази најчешће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натријум лаурил сулфат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 омогућава скидање плака са зуба и олакшава клизање четкице преко зуб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атријум лаурил сулф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Остали састојци пасте за зуб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714240" y="230112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а би сви састојци пасте за зубе били хомогено измешани, додаје с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нституенс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везујућ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редство), који је најчешће карбокси метил целул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некада се у пасте додају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ригенси укус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аслађивачи: нпр. сахарин)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тисепти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натријум флуорид, стронцијум хлорид, уреа, амонијум фосфат)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метил-плаво, магента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Средства за испирање усне дупљ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42960" y="257184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редства за испирање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 усне дупљ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 заправо раствори којима се усна дупља испира, после чега се испљу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ристе се ради превенције каријеса и за лечење гингивитиса и стоматитис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Састојци раствора за испирање усне дупљ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85840" y="209016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кох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10-20%, ради дезинфекције, раствара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ругих супстанци и корекције у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умектан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глицерол и сорбитол (5-20%)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ећавају вискозност препарата и дају м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аткаст ук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урфактан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олиоксиетилен сорбитол, натријум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аурил сулфат) омогућавају да препарат пени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кида прљавшт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ригенси укус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нтол, пеперминт, цимет, метил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лицила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плаво, магента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Лекови који се додају у растворе за испирањ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214200" y="1765800"/>
            <a:ext cx="8929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тихистаминик + кортикостероид + антибиоти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лечење стом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опурин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а лечење стом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илокарп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а лечење недовољног лучења пљува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мфотерицин Б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лечење кандидија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анексамична кисели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спречавање крваре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опе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лорхексидин глуконат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превенцију п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ксет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бог антибактеријског деј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КОВИ ЗА ЛОКАЛНУ ХЕМОСТАЗУ У УСНОЈ ДУПЉ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85840" y="1500120"/>
            <a:ext cx="8643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 тешких екстракција зуба или обимнијих хируршких интервенција у усној дупљи оперативно место може доста да крва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варење се може зауставити применом на место интервенције ресорптивног коагулантног средства: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оксидисана регенерисана целулоз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сунђер од желатина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колаген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синтетски или микрокристални или свињски)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н-бутил-2-цијано-акрилатни лепак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фибрински лепак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састоји се углавном од тромбина и фибриноген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 се ови хемостатици поставе у рану, она се може преко ушити ресорптивним концем ; пацијенту затим треба дати смотуљак влажне газе да преко њега загризе, а да газа притисне на рану – после око 10 минута притиска крварење обично ст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Желатински сунђ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25080" y="1500120"/>
            <a:ext cx="84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а 1 х 1 х 1 центиме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 се апсорбује ако остане на месту примене после неколико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 изазива алер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 неутралан 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псорбује крв до 50 пута веће тежине од сопств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се применити сув или натопљен физиолошким раств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да се сече и облик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изводи се од колагена из коже сви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анизам дејства желатинског сунђ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омбоцити који долазе у контакт са сунђером бивају оштећени и ослобађају тромбопласт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омбопластин интерагује са протромбином и калцијумом и настаје тромб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м наведеног, желатински сунђер даје механичку основу за настанак угруш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-бутил-цијаноакрил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285560"/>
            <a:ext cx="8472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пстанца која се у присуству слабе базе (нпр. мало воде) полимеризује кроз егзотермну реакциј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лимеризација наступа за 10 секунд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Због полимеризације слепљује ивице ткива једне за друг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же се применити код периодонталних операција или за хемостазу после вађења зу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Оксидисана целулоз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14240" y="241308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Оксидисана целулоза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добија излагањем обичне целулозе неком оксидационом средству (нпр. водоник пероксид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сидационо средство доводи до стварања алдехидних и кето група у целулози, тако да она лакше активира систем коагулације кр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рсте оксидисане целулоз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55200" y="2357280"/>
            <a:ext cx="216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ha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amp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еханизам дејства оксидисане целулоз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ада се примени на површину која крвари, уз краткотрајан притисак зачепи капиларе и активира процес коагула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есорбује се после 7 да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ењује се сува или натопљена са физиолошким раствор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16:20:16Z</dcterms:modified>
  <cp:revision>256</cp:revision>
  <dc:subject/>
  <dc:title>Slide 1</dc:title>
</cp:coreProperties>
</file>